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png" ContentType="image/png"/>
  <Override PartName="/ppt/media/image12.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8B0B6-EA17-45E8-A260-8BA77F49E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CF330-6538-4445-A5A7-AEF5265A1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2E80A-CB22-4CA7-846A-9EC133202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812DF-CC30-4B74-99FF-B08FA9038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7DE9A-B9BD-4779-995C-04D40ECE2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877F3-4BF1-432A-8B4F-536B095B9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F770E-6A59-4657-A659-B3B0C654A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3383B-EE4C-42E4-8605-A113E2DAC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6ECE4-FE81-4355-81CA-A84D65EBC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7ED8A-D86B-4756-A9E5-CB5EA7AA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A1CA4-0EF3-4B6F-995E-24ADD7E84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FA374-670D-4947-AE08-D13F809C0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533B-2F91-46F9-9CB9-685F42CAF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thomaslegion.net/sitebuildercontent/sitebuilderpictures/louisiana_purchase_treaty_agreement.jpg&amp;imgrefurl=http://thomaslegion.net/thelouisianapurchaseagreement.html&amp;h=353&amp;w=561&amp;sz=47&amp;tbnid=WqU7LVSRrniaYM:&amp;tbnh=84&amp;tbnw=133&amp;prev=/images%3Fq%3Dlouisiana%2Bpurchase&amp;hl=en&amp;usg=__f5BJrlio1GaVe5HPgRVhqBE5BzE=&amp;sa=X&amp;ei=NRYVTOqyFIr4Moy2iLEL&amp;ved=0CCgQ9QEwAw" TargetMode="External"/><Relationship Id="rId2" Type="http://schemas.openxmlformats.org/officeDocument/2006/relationships/hyperlink" Target="http://www.google.com/imgres?imgurl=http://thomaslegion.net/sitebuildercontent/sitebuilderpictures/louisiana_purchase_treaty_agreement.jpg&amp;imgrefurl=http://thomaslegion.net/thelouisianapurchaseagreement.html&amp;h=353&amp;w=561&amp;sz=47&amp;tbnid=WqU7LVSRrniaYM:&amp;tbnh=84&amp;tbnw=133&amp;prev=/images%3Fq%3Dlouisiana%2Bpurchase&amp;hl=en&amp;usg=__f5BJrlio1GaVe5HPgRVhqBE5BzE=&amp;sa=X&amp;ei=NRYVTOqyFIr4Moy2iLEL&amp;ved=0CCgQ9QEwA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historyforkids.org/learn/northamerica/after1500/economy/pictures/oregontrailchips.jpg&amp;imgrefurl=http://www.historyforkids.org/learn/northamerica/after1500/clothing/styles1800s.htm&amp;h=325&amp;w=300&amp;sz=25&amp;tbnid=V1aUmxefZ_OyoM:&amp;tbnh=234&amp;tbnw=216&amp;prev=/images%3Fq%3Dpic%2Bof%2Bchildren%2Bdoing%2Bchores%2Bin%2Bthe%2Btrail%2Bin%2B1800s&amp;hl=en&amp;usg=___AqH8GzIWGLVWE0LRbVteQmUU7M=&amp;sa=X&amp;ei=NC0VTP-CHouONuLxwYMN&amp;ved=0CBYQ9QEwAQ"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ifest Destiny</a:t>
            </a:r>
            <a:endParaRPr b="0" lang="en-US" sz="4400" spc="-1" strike="noStrike">
              <a:solidFill>
                <a:srgbClr val="000000"/>
              </a:solidFill>
              <a:latin typeface="Arial"/>
            </a:endParaRPr>
          </a:p>
        </p:txBody>
      </p:sp>
      <p:sp>
        <p:nvSpPr>
          <p:cNvPr id="42" name="Text Box 5"/>
          <p:cNvSpPr/>
          <p:nvPr/>
        </p:nvSpPr>
        <p:spPr>
          <a:xfrm>
            <a:off x="457200" y="495288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 was destined to stretch from sea to sea, and nothing could stop them.  As the Eastern portion of the country became more populated, their attention turned westward.   Promises of riches, a new start, free land, and adventure attracted people to lands once only inhabited by Natives.  </a:t>
            </a:r>
            <a:endParaRPr b="0" lang="en-US" sz="2000" spc="-1" strike="noStrike">
              <a:solidFill>
                <a:srgbClr val="000000"/>
              </a:solidFill>
              <a:latin typeface="Arial"/>
            </a:endParaRPr>
          </a:p>
        </p:txBody>
      </p:sp>
      <p:pic>
        <p:nvPicPr>
          <p:cNvPr id="43" name="Picture 6" descr="Image22"/>
          <p:cNvPicPr/>
          <p:nvPr/>
        </p:nvPicPr>
        <p:blipFill>
          <a:blip r:embed="rId1"/>
          <a:stretch/>
        </p:blipFill>
        <p:spPr>
          <a:xfrm>
            <a:off x="1600200" y="1523880"/>
            <a:ext cx="6095880" cy="326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irie Schooner</a:t>
            </a:r>
            <a:endParaRPr b="0" lang="en-US" sz="4400" spc="-1" strike="noStrike">
              <a:solidFill>
                <a:srgbClr val="000000"/>
              </a:solidFill>
              <a:latin typeface="Arial"/>
            </a:endParaRPr>
          </a:p>
        </p:txBody>
      </p:sp>
      <p:pic>
        <p:nvPicPr>
          <p:cNvPr id="70" name="Content Placeholder 4" descr="wagondiagram.gif"/>
          <p:cNvPicPr/>
          <p:nvPr/>
        </p:nvPicPr>
        <p:blipFill>
          <a:blip r:embed="rId1"/>
          <a:stretch/>
        </p:blipFill>
        <p:spPr>
          <a:xfrm>
            <a:off x="304920" y="2438280"/>
            <a:ext cx="4394160" cy="2637000"/>
          </a:xfrm>
          <a:prstGeom prst="rect">
            <a:avLst/>
          </a:prstGeom>
          <a:ln w="0">
            <a:noFill/>
          </a:ln>
        </p:spPr>
      </p:pic>
      <p:pic>
        <p:nvPicPr>
          <p:cNvPr id="71" name="Content Placeholder 5" descr="oregon-trail-interpretive-park-la-grande-or175[1].jpg"/>
          <p:cNvPicPr/>
          <p:nvPr/>
        </p:nvPicPr>
        <p:blipFill>
          <a:blip r:embed="rId2"/>
          <a:stretch/>
        </p:blipFill>
        <p:spPr>
          <a:xfrm>
            <a:off x="5105520" y="2590920"/>
            <a:ext cx="3170160" cy="23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Content Placeholder 4" descr="baq-1851.jpg"/>
          <p:cNvPicPr/>
          <p:nvPr/>
        </p:nvPicPr>
        <p:blipFill>
          <a:blip r:embed="rId1"/>
          <a:stretch/>
        </p:blipFill>
        <p:spPr>
          <a:xfrm>
            <a:off x="457200" y="1666800"/>
            <a:ext cx="4038480" cy="4392720"/>
          </a:xfrm>
          <a:prstGeom prst="rect">
            <a:avLst/>
          </a:prstGeom>
          <a:ln w="0">
            <a:noFill/>
          </a:ln>
        </p:spPr>
      </p:pic>
      <p:pic>
        <p:nvPicPr>
          <p:cNvPr id="74" name="Content Placeholder 5" descr="image_1_1037.jpg"/>
          <p:cNvPicPr/>
          <p:nvPr/>
        </p:nvPicPr>
        <p:blipFill>
          <a:blip r:embed="rId2"/>
          <a:stretch/>
        </p:blipFill>
        <p:spPr>
          <a:xfrm>
            <a:off x="5181480" y="1905120"/>
            <a:ext cx="3353040" cy="40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wis &amp; Clark Expedition</a:t>
            </a:r>
            <a:endParaRPr b="0" lang="en-US" sz="4400" spc="-1" strike="noStrike">
              <a:solidFill>
                <a:srgbClr val="000000"/>
              </a:solidFill>
              <a:latin typeface="Arial"/>
            </a:endParaRPr>
          </a:p>
        </p:txBody>
      </p:sp>
      <p:pic>
        <p:nvPicPr>
          <p:cNvPr id="45" name="Picture 5" descr="lc_sft1"/>
          <p:cNvPicPr/>
          <p:nvPr/>
        </p:nvPicPr>
        <p:blipFill>
          <a:blip r:embed="rId1"/>
          <a:stretch/>
        </p:blipFill>
        <p:spPr>
          <a:xfrm>
            <a:off x="1371600" y="1219320"/>
            <a:ext cx="6095880" cy="3200400"/>
          </a:xfrm>
          <a:prstGeom prst="rect">
            <a:avLst/>
          </a:prstGeom>
          <a:ln w="0">
            <a:noFill/>
          </a:ln>
        </p:spPr>
      </p:pic>
      <p:sp>
        <p:nvSpPr>
          <p:cNvPr id="46" name="Text Box 8"/>
          <p:cNvSpPr/>
          <p:nvPr/>
        </p:nvSpPr>
        <p:spPr>
          <a:xfrm>
            <a:off x="1143000" y="5105520"/>
            <a:ext cx="7010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685800" y="441972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ewis and Clark Expedition</a:t>
            </a:r>
            <a:r>
              <a:rPr b="0" lang="en-US" sz="1800" spc="-1" strike="noStrike">
                <a:solidFill>
                  <a:srgbClr val="000000"/>
                </a:solidFill>
                <a:latin typeface="Arial"/>
              </a:rPr>
              <a:t> (1804–1806) was the first overland expedition undertaken by the United States to the Pacific coast and back. The expedition team was headed by the United States Army soldiers Meriwether Lewis and William Clark and assisted by Sacajawea and Toussaint Charbonneau. The expedition's goal was to gain an accurate sense of the resources being exchanged in the Louisiana Purchase. The expedition laid much of the groundwork for the westward expansion of the United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uisiana Purchase</a:t>
            </a:r>
            <a:endParaRPr b="0" lang="en-US" sz="4400" spc="-1" strike="noStrike">
              <a:solidFill>
                <a:srgbClr val="000000"/>
              </a:solidFill>
              <a:latin typeface="Arial"/>
            </a:endParaRPr>
          </a:p>
        </p:txBody>
      </p:sp>
      <p:sp>
        <p:nvSpPr>
          <p:cNvPr id="49" name="PlaceHolder 2"/>
          <p:cNvSpPr>
            <a:spLocks noGrp="1"/>
          </p:cNvSpPr>
          <p:nvPr>
            <p:ph/>
          </p:nvPr>
        </p:nvSpPr>
        <p:spPr>
          <a:xfrm>
            <a:off x="380880" y="4343400"/>
            <a:ext cx="7848720" cy="2286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ouisiana Territory, purchased for less than 5 cents an acre, was one of Thomas Jefferson's greatest contributions to his country. Louisiana doubled the size of the United States literally overnight, without a war or the loss of a single American life, and set a model for the purchase of territory. It opened the way for the eventual expansion of the United States across the continent to the Pacific, and its resultant rise to the status of world power. </a:t>
            </a:r>
            <a:endParaRPr b="0" lang="en-US" sz="2000" spc="-1" strike="noStrike">
              <a:solidFill>
                <a:srgbClr val="000000"/>
              </a:solidFill>
              <a:latin typeface="Arial"/>
            </a:endParaRPr>
          </a:p>
        </p:txBody>
      </p:sp>
      <p:sp>
        <p:nvSpPr>
          <p:cNvPr id="50" name="AutoShape 5">
            <a:hlinkClick r:id="rId1"/>
          </p:cNvPr>
          <p:cNvSpPr/>
          <p:nvPr/>
        </p:nvSpPr>
        <p:spPr>
          <a:xfrm>
            <a:off x="3986280" y="3057480"/>
            <a:ext cx="1171440" cy="7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a:hlinkClick r:id="rId2"/>
          </p:cNvPr>
          <p:cNvSpPr/>
          <p:nvPr/>
        </p:nvSpPr>
        <p:spPr>
          <a:xfrm>
            <a:off x="3986280" y="3057480"/>
            <a:ext cx="1171440" cy="7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louisiana_purchase_treaty_agreement"/>
          <p:cNvPicPr/>
          <p:nvPr/>
        </p:nvPicPr>
        <p:blipFill>
          <a:blip r:embed="rId3"/>
          <a:stretch/>
        </p:blipFill>
        <p:spPr>
          <a:xfrm>
            <a:off x="1371600" y="1295280"/>
            <a:ext cx="6553080" cy="278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snowtrail"/>
          <p:cNvPicPr/>
          <p:nvPr/>
        </p:nvPicPr>
        <p:blipFill>
          <a:blip r:embed="rId1"/>
          <a:stretch/>
        </p:blipFill>
        <p:spPr>
          <a:xfrm>
            <a:off x="1447920" y="1447920"/>
            <a:ext cx="6248160" cy="28191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ngers on the Trai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Text Box 7"/>
          <p:cNvSpPr/>
          <p:nvPr/>
        </p:nvSpPr>
        <p:spPr>
          <a:xfrm>
            <a:off x="838080" y="4267080"/>
            <a:ext cx="76201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any dangers on the trail like fierce animals, Indians, storms, rivers, diseases, and robbers.  Many of the  Indians were not friendly.  They would try to steal cattle and horses.  The pioneers also lost livestock to coyotes and other predators.  That's why the pioneers had guards who stayed up all night to watch the livestock.  Many rivers were difficult to cross.  Some of the rivers were fast, deep, and mudd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utoShape 6">
            <a:hlinkClick r:id="rId1"/>
          </p:cNvPr>
          <p:cNvSpPr/>
          <p:nvPr/>
        </p:nvSpPr>
        <p:spPr>
          <a:xfrm>
            <a:off x="3714840" y="2495520"/>
            <a:ext cx="1714320" cy="186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res Children Did on the Trail</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8" name="Picture 11" descr="oregontrailchips"/>
          <p:cNvPicPr/>
          <p:nvPr/>
        </p:nvPicPr>
        <p:blipFill>
          <a:blip r:embed="rId2"/>
          <a:stretch/>
        </p:blipFill>
        <p:spPr>
          <a:xfrm>
            <a:off x="2971800" y="1295280"/>
            <a:ext cx="3027240" cy="3200400"/>
          </a:xfrm>
          <a:prstGeom prst="rect">
            <a:avLst/>
          </a:prstGeom>
          <a:ln w="0">
            <a:noFill/>
          </a:ln>
        </p:spPr>
      </p:pic>
      <p:sp>
        <p:nvSpPr>
          <p:cNvPr id="59" name="Text Box 12"/>
          <p:cNvSpPr/>
          <p:nvPr/>
        </p:nvSpPr>
        <p:spPr>
          <a:xfrm>
            <a:off x="457200" y="464832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had lots of chores that included milking their cows, fetching water from a stream or a river that was nearby, helping their parents cook food, washing dishes, collecting buffalo chips or wood for the fire, shaking out dusty blankets and quilts, and hanging beef jerky to dry in the su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1" name="Picture Placeholder 4" descr="or-trail-intp-center.jpg"/>
          <p:cNvPicPr/>
          <p:nvPr/>
        </p:nvPicPr>
        <p:blipFill>
          <a:blip r:embed="rId1"/>
          <a:srcRect l="0" t="17916" r="0" b="17916"/>
          <a:stretch/>
        </p:blipFill>
        <p:spPr>
          <a:xfrm>
            <a:off x="1792440" y="612720"/>
            <a:ext cx="5486400" cy="4114800"/>
          </a:xfrm>
          <a:prstGeom prst="rect">
            <a:avLst/>
          </a:prstGeom>
          <a:ln w="0">
            <a:noFill/>
          </a:ln>
        </p:spPr>
      </p:pic>
      <p:sp>
        <p:nvSpPr>
          <p:cNvPr id="62" name="PlaceHolder 2"/>
          <p:cNvSpPr>
            <a:spLocks noGrp="1"/>
          </p:cNvSpPr>
          <p:nvPr>
            <p:ph/>
          </p:nvPr>
        </p:nvSpPr>
        <p:spPr>
          <a:xfrm>
            <a:off x="1752480" y="5333760"/>
            <a:ext cx="5486400" cy="80460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the 1840s and 1850s, 500,000 people walked &amp; rode West on the Oregon Trai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Content Placeholder 3" descr="img002.gif"/>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regon Trail</a:t>
            </a:r>
            <a:endParaRPr b="0" lang="en-US" sz="4400" spc="-1" strike="noStrike">
              <a:solidFill>
                <a:srgbClr val="000000"/>
              </a:solidFill>
              <a:latin typeface="Arial"/>
            </a:endParaRPr>
          </a:p>
        </p:txBody>
      </p:sp>
      <p:pic>
        <p:nvPicPr>
          <p:cNvPr id="66" name="Content Placeholder 3" descr="oregon-trail-apple-iie1.gif"/>
          <p:cNvPicPr/>
          <p:nvPr/>
        </p:nvPicPr>
        <p:blipFill>
          <a:blip r:embed="rId1"/>
          <a:stretch/>
        </p:blipFill>
        <p:spPr>
          <a:xfrm>
            <a:off x="1523880" y="1957320"/>
            <a:ext cx="6096240" cy="381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Content Placeholder 3" descr="westward.jpg"/>
          <p:cNvPicPr/>
          <p:nvPr/>
        </p:nvPicPr>
        <p:blipFill>
          <a:blip r:embed="rId1"/>
          <a:stretch/>
        </p:blipFill>
        <p:spPr>
          <a:xfrm>
            <a:off x="1219320" y="1447920"/>
            <a:ext cx="6948360" cy="442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3T06:46:43Z</dcterms:created>
  <dc:creator>Rosy</dc:creator>
  <dc:description/>
  <dc:language>en-US</dc:language>
  <cp:lastModifiedBy>Bonnie B</cp:lastModifiedBy>
  <dcterms:modified xsi:type="dcterms:W3CDTF">2010-06-14T08:23:25Z</dcterms:modified>
  <cp:revision>23</cp:revision>
  <dc:subject/>
  <dc:title>Manifest Destiny</dc:title>
</cp:coreProperties>
</file>