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media/image12.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527E-5052-4325-823E-AAA0738A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F7EA4-BC45-47DF-A84F-A703F33E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A023E-AB62-43B0-9D12-4090B8318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EC727-BC42-41A7-A8BC-4A792214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E9E0-46CF-472C-8038-7240E9A9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D678D-82FE-4F2F-9B2D-49A91128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277E-2A59-48F3-9D32-58E122D2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C3DB6-87ED-47DD-BF14-B2E00D67C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363B-B8CE-4D99-AB3C-426E7C3C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0EBF-D3F4-44F2-9B08-3F10EB35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19AD-F832-499F-9362-A4088A36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4CFA-E1AB-4CC5-85E2-C48F4D2FB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341E-2EFA-48BA-9185-6A986DBFBE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2" Type="http://schemas.openxmlformats.org/officeDocument/2006/relationships/hyperlink" Target="http://www.google.com/imgres?imgurl=http://thomaslegion.net/sitebuildercontent/sitebuilderpictures/louisiana_purchase_treaty_agreement.jpg&amp;imgrefurl=http://thomaslegion.net/thelouisianapurchaseagreement.html&amp;h=353&amp;w=561&amp;sz=47&amp;tbnid=WqU7LVSRrniaYM:&amp;tbnh=84&amp;tbnw=133&amp;prev=/images%3Fq%3Dlouisiana%2Bpurchase&amp;hl=en&amp;usg=__f5BJrlio1GaVe5HPgRVhqBE5BzE=&amp;sa=X&amp;ei=NRYVTOqyFIr4Moy2iLEL&amp;ved=0CCgQ9QEwAw"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historyforkids.org/learn/northamerica/after1500/economy/pictures/oregontrailchips.jpg&amp;imgrefurl=http://www.historyforkids.org/learn/northamerica/after1500/clothing/styles1800s.htm&amp;h=325&amp;w=300&amp;sz=25&amp;tbnid=V1aUmxefZ_OyoM:&amp;tbnh=234&amp;tbnw=216&amp;prev=/images%3Fq%3Dpic%2Bof%2Bchildren%2Bdoing%2Bchores%2Bin%2Bthe%2Btrail%2Bin%2B1800s&amp;hl=en&amp;usg=___AqH8GzIWGLVWE0LRbVteQmUU7M=&amp;sa=X&amp;ei=NC0VTP-CHouONuLxwYMN&amp;ved=0CBYQ9QEwA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Text Box 5"/>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Picture 6" descr="Image22"/>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irie Schooner</a:t>
            </a:r>
            <a:endParaRPr b="0" lang="en-US" sz="4400" spc="-1" strike="noStrike">
              <a:solidFill>
                <a:srgbClr val="000000"/>
              </a:solidFill>
              <a:latin typeface="Arial"/>
            </a:endParaRPr>
          </a:p>
        </p:txBody>
      </p:sp>
      <p:pic>
        <p:nvPicPr>
          <p:cNvPr id="70" name="Content Placeholder 4" descr="wagondiagram.gif"/>
          <p:cNvPicPr/>
          <p:nvPr/>
        </p:nvPicPr>
        <p:blipFill>
          <a:blip r:embed="rId1"/>
          <a:stretch/>
        </p:blipFill>
        <p:spPr>
          <a:xfrm>
            <a:off x="304920" y="2438280"/>
            <a:ext cx="4394160" cy="2637000"/>
          </a:xfrm>
          <a:prstGeom prst="rect">
            <a:avLst/>
          </a:prstGeom>
          <a:ln w="0">
            <a:noFill/>
          </a:ln>
        </p:spPr>
      </p:pic>
      <p:pic>
        <p:nvPicPr>
          <p:cNvPr id="71" name="Content Placeholder 5" descr="oregon-trail-interpretive-park-la-grande-or175[1].jpg"/>
          <p:cNvPicPr/>
          <p:nvPr/>
        </p:nvPicPr>
        <p:blipFill>
          <a:blip r:embed="rId2"/>
          <a:stretch/>
        </p:blipFill>
        <p:spPr>
          <a:xfrm>
            <a:off x="5105520" y="2590920"/>
            <a:ext cx="3170160" cy="23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Content Placeholder 4" descr="baq-1851.jpg"/>
          <p:cNvPicPr/>
          <p:nvPr/>
        </p:nvPicPr>
        <p:blipFill>
          <a:blip r:embed="rId1"/>
          <a:stretch/>
        </p:blipFill>
        <p:spPr>
          <a:xfrm>
            <a:off x="457200" y="1666800"/>
            <a:ext cx="4038480" cy="4392720"/>
          </a:xfrm>
          <a:prstGeom prst="rect">
            <a:avLst/>
          </a:prstGeom>
          <a:ln w="0">
            <a:noFill/>
          </a:ln>
        </p:spPr>
      </p:pic>
      <p:pic>
        <p:nvPicPr>
          <p:cNvPr id="74" name="Content Placeholder 5" descr="image_1_1037.jpg"/>
          <p:cNvPicPr/>
          <p:nvPr/>
        </p:nvPicPr>
        <p:blipFill>
          <a:blip r:embed="rId2"/>
          <a:stretch/>
        </p:blipFill>
        <p:spPr>
          <a:xfrm>
            <a:off x="5181480" y="1905120"/>
            <a:ext cx="3353040" cy="408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Picture 5" descr="lc_sft1"/>
          <p:cNvPicPr/>
          <p:nvPr/>
        </p:nvPicPr>
        <p:blipFill>
          <a:blip r:embed="rId1"/>
          <a:stretch/>
        </p:blipFill>
        <p:spPr>
          <a:xfrm>
            <a:off x="1371600" y="1219320"/>
            <a:ext cx="6095880" cy="3200400"/>
          </a:xfrm>
          <a:prstGeom prst="rect">
            <a:avLst/>
          </a:prstGeom>
          <a:ln w="0">
            <a:noFill/>
          </a:ln>
        </p:spPr>
      </p:pic>
      <p:sp>
        <p:nvSpPr>
          <p:cNvPr id="46" name="Text Box 8"/>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sp>
        <p:nvSpPr>
          <p:cNvPr id="50" name="AutoShape 5">
            <a:hlinkClick r:id="rId1"/>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7">
            <a:hlinkClick r:id="rId2"/>
          </p:cNvPr>
          <p:cNvSpPr/>
          <p:nvPr/>
        </p:nvSpPr>
        <p:spPr>
          <a:xfrm>
            <a:off x="3986280" y="3057480"/>
            <a:ext cx="117144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louisiana_purchase_treaty_agreement"/>
          <p:cNvPicPr/>
          <p:nvPr/>
        </p:nvPicPr>
        <p:blipFill>
          <a:blip r:embed="rId3"/>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snowtrail"/>
          <p:cNvPicPr/>
          <p:nvPr/>
        </p:nvPicPr>
        <p:blipFill>
          <a:blip r:embed="rId1"/>
          <a:stretch/>
        </p:blipFill>
        <p:spPr>
          <a:xfrm>
            <a:off x="1447920" y="1447920"/>
            <a:ext cx="6248160" cy="28191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Text Box 7"/>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6">
            <a:hlinkClick r:id="rId1"/>
          </p:cNvPr>
          <p:cNvSpPr/>
          <p:nvPr/>
        </p:nvSpPr>
        <p:spPr>
          <a:xfrm>
            <a:off x="3714840" y="2495520"/>
            <a:ext cx="1714320" cy="186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Picture 11" descr="oregontrailchips"/>
          <p:cNvPicPr/>
          <p:nvPr/>
        </p:nvPicPr>
        <p:blipFill>
          <a:blip r:embed="rId2"/>
          <a:stretch/>
        </p:blipFill>
        <p:spPr>
          <a:xfrm>
            <a:off x="2971800" y="1295280"/>
            <a:ext cx="3027240" cy="3200400"/>
          </a:xfrm>
          <a:prstGeom prst="rect">
            <a:avLst/>
          </a:prstGeom>
          <a:ln w="0">
            <a:noFill/>
          </a:ln>
        </p:spPr>
      </p:pic>
      <p:sp>
        <p:nvSpPr>
          <p:cNvPr id="59" name="Text Box 12"/>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 name="Picture Placeholder 4" descr="or-trail-intp-center.jpg"/>
          <p:cNvPicPr/>
          <p:nvPr/>
        </p:nvPicPr>
        <p:blipFill>
          <a:blip r:embed="rId1"/>
          <a:srcRect l="0" t="17916" r="0" b="17916"/>
          <a:stretch/>
        </p:blipFill>
        <p:spPr>
          <a:xfrm>
            <a:off x="1792440" y="612720"/>
            <a:ext cx="5486400" cy="4114800"/>
          </a:xfrm>
          <a:prstGeom prst="rect">
            <a:avLst/>
          </a:prstGeom>
          <a:ln w="0">
            <a:noFill/>
          </a:ln>
        </p:spPr>
      </p:pic>
      <p:sp>
        <p:nvSpPr>
          <p:cNvPr id="62" name="PlaceHolder 2"/>
          <p:cNvSpPr>
            <a:spLocks noGrp="1"/>
          </p:cNvSpPr>
          <p:nvPr>
            <p:ph/>
          </p:nvPr>
        </p:nvSpPr>
        <p:spPr>
          <a:xfrm>
            <a:off x="1752480" y="5333760"/>
            <a:ext cx="5486400" cy="80460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the 1840s and 1850s, 500,000 people walked &amp; rode West on the Oregon Tra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Content Placeholder 3" descr="img002.gif"/>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egon Trail</a:t>
            </a:r>
            <a:endParaRPr b="0" lang="en-US" sz="4400" spc="-1" strike="noStrike">
              <a:solidFill>
                <a:srgbClr val="000000"/>
              </a:solidFill>
              <a:latin typeface="Arial"/>
            </a:endParaRPr>
          </a:p>
        </p:txBody>
      </p:sp>
      <p:pic>
        <p:nvPicPr>
          <p:cNvPr id="66" name="Content Placeholder 3" descr="oregon-trail-apple-iie1.gif"/>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Content Placeholder 3" descr="westward.jpg"/>
          <p:cNvPicPr/>
          <p:nvPr/>
        </p:nvPicPr>
        <p:blipFill>
          <a:blip r:embed="rId1"/>
          <a:stretch/>
        </p:blipFill>
        <p:spPr>
          <a:xfrm>
            <a:off x="1219320" y="1447920"/>
            <a:ext cx="6948360" cy="442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Bonnie B</cp:lastModifiedBy>
  <dcterms:modified xsi:type="dcterms:W3CDTF">2010-06-14T08:23:25Z</dcterms:modified>
  <cp:revision>23</cp:revision>
  <dc:subject/>
  <dc:title>Manifest Destiny</dc:title>
</cp:coreProperties>
</file>