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A2F7E-3E76-4D4A-A488-5DC9DE7EE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6238-C60B-46BC-AFA3-C1388810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2A618-E6E3-49FE-BCC9-F7DDD3BFF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761C9-82BE-4673-9482-7FC80845E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AC04-F038-40A0-9681-784F0D36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40620-BA2D-4CCE-BDDA-3E4329C20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57CD9-577C-4B38-9F4C-48DF202C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DC3A-3196-4484-9C3B-C84F2A534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1E5F-6E4F-47DB-AE49-E4239AD9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C2C3-ECE4-46A5-A4E0-ADBCF84E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F7B5-4B28-46EC-A07A-2D0DF5970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365BE-25F8-42B2-804F-CE64EB47B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8D7B-6E02-442C-A0C4-9BE70DE706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 descr=""/>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 descr=""/>
          <p:cNvPicPr/>
          <p:nvPr/>
        </p:nvPicPr>
        <p:blipFill>
          <a:blip r:embed="rId1"/>
          <a:stretch/>
        </p:blipFill>
        <p:spPr>
          <a:xfrm>
            <a:off x="1371600" y="1219320"/>
            <a:ext cx="6095880" cy="3200400"/>
          </a:xfrm>
          <a:prstGeom prst="rect">
            <a:avLst/>
          </a:prstGeom>
          <a:ln w="0">
            <a:noFill/>
          </a:ln>
        </p:spPr>
      </p:pic>
      <p:sp>
        <p:nvSpPr>
          <p:cNvPr id="46" name=""/>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pic>
        <p:nvPicPr>
          <p:cNvPr id="50" name="" descr=""/>
          <p:cNvPicPr/>
          <p:nvPr/>
        </p:nvPicPr>
        <p:blipFill>
          <a:blip r:embed="rId1"/>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7920" y="1447920"/>
            <a:ext cx="6248160" cy="2819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stretch/>
        </p:blipFill>
        <p:spPr>
          <a:xfrm>
            <a:off x="2971800" y="1295280"/>
            <a:ext cx="3027240" cy="3200400"/>
          </a:xfrm>
          <a:prstGeom prst="rect">
            <a:avLst/>
          </a:prstGeom>
          <a:ln w="0">
            <a:noFill/>
          </a:ln>
        </p:spPr>
      </p:pic>
      <p:sp>
        <p:nvSpPr>
          <p:cNvPr id="56" name=""/>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Rosy</cp:lastModifiedBy>
  <dcterms:modified xsi:type="dcterms:W3CDTF">2010-06-13T19:32:53Z</dcterms:modified>
  <cp:revision>11</cp:revision>
  <dc:subject/>
  <dc:title>Manifest Destiny</dc:title>
</cp:coreProperties>
</file>