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5DCE-69EA-4D56-89A1-CD231D0F5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66F30-7AD6-4D21-847B-5F7ACC05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9FB7-50A2-49B7-9BE8-CC433C825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60110-728C-4816-95AC-7E65E4C3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FDF2-0444-4798-AE59-935D1346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735C-3B4E-42C6-B9F1-7CBC13CD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5028-1645-4FFF-AB3C-07C982FF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65A1-AB92-402A-80C2-1FB2C7F0C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24AD-5940-4F32-9806-4266201D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7572-A15C-45E9-AA45-18272D0E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9E73-CB15-4FB4-B44F-885E6586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536D-6512-4219-BFB4-717210D60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5108-C6F7-4F21-A9E0-C3A81B8F7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 descr=""/>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 descr=""/>
          <p:cNvPicPr/>
          <p:nvPr/>
        </p:nvPicPr>
        <p:blipFill>
          <a:blip r:embed="rId1"/>
          <a:stretch/>
        </p:blipFill>
        <p:spPr>
          <a:xfrm>
            <a:off x="1371600" y="1219320"/>
            <a:ext cx="6095880" cy="3200400"/>
          </a:xfrm>
          <a:prstGeom prst="rect">
            <a:avLst/>
          </a:prstGeom>
          <a:ln w="0">
            <a:noFill/>
          </a:ln>
        </p:spPr>
      </p:pic>
      <p:sp>
        <p:nvSpPr>
          <p:cNvPr id="46" name=""/>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pic>
        <p:nvPicPr>
          <p:cNvPr id="50" name="" descr=""/>
          <p:cNvPicPr/>
          <p:nvPr/>
        </p:nvPicPr>
        <p:blipFill>
          <a:blip r:embed="rId1"/>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1447920"/>
            <a:ext cx="6248160" cy="2819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2971800" y="1295280"/>
            <a:ext cx="3027240" cy="3200400"/>
          </a:xfrm>
          <a:prstGeom prst="rect">
            <a:avLst/>
          </a:prstGeom>
          <a:ln w="0">
            <a:noFill/>
          </a:ln>
        </p:spPr>
      </p:pic>
      <p:sp>
        <p:nvSpPr>
          <p:cNvPr id="56" name=""/>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Rosy</cp:lastModifiedBy>
  <dcterms:modified xsi:type="dcterms:W3CDTF">2010-06-13T19:32:53Z</dcterms:modified>
  <cp:revision>11</cp:revision>
  <dc:subject/>
  <dc:title>Manifest Destiny</dc:title>
</cp:coreProperties>
</file>