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D644B-D882-403B-A9E3-0FDDF25AC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DB28-079F-4BCC-816A-B276C1F14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A6D61-C7AB-400A-B55F-4E7C6948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81DD5-731F-4AFF-8599-CF7E422B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CC64C-E0FB-4E7C-9463-DA524605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F243-7514-4F2B-918E-D82608E6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3971-E338-4BFE-856D-036DB84E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5FBBB-2E5C-4630-A079-243FEA3A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F093-9FB5-4130-8E2B-1266210FD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7833-A6B4-45FC-B319-18CE66126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813A-E03B-402B-BADC-C74EE3FF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F60A5-2B49-4AFB-A45A-0BB937AE7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2B15-4C48-48DB-BFA5-5C775E611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 descr=""/>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 descr=""/>
          <p:cNvPicPr/>
          <p:nvPr/>
        </p:nvPicPr>
        <p:blipFill>
          <a:blip r:embed="rId1"/>
          <a:stretch/>
        </p:blipFill>
        <p:spPr>
          <a:xfrm>
            <a:off x="1371600" y="1219320"/>
            <a:ext cx="6095880" cy="3200400"/>
          </a:xfrm>
          <a:prstGeom prst="rect">
            <a:avLst/>
          </a:prstGeom>
          <a:ln w="0">
            <a:noFill/>
          </a:ln>
        </p:spPr>
      </p:pic>
      <p:sp>
        <p:nvSpPr>
          <p:cNvPr id="46" name=""/>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pic>
        <p:nvPicPr>
          <p:cNvPr id="50" name="" descr=""/>
          <p:cNvPicPr/>
          <p:nvPr/>
        </p:nvPicPr>
        <p:blipFill>
          <a:blip r:embed="rId1"/>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1447920"/>
            <a:ext cx="6248160" cy="2819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2971800" y="1295280"/>
            <a:ext cx="3027240" cy="3200400"/>
          </a:xfrm>
          <a:prstGeom prst="rect">
            <a:avLst/>
          </a:prstGeom>
          <a:ln w="0">
            <a:noFill/>
          </a:ln>
        </p:spPr>
      </p:pic>
      <p:sp>
        <p:nvSpPr>
          <p:cNvPr id="56" name=""/>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Rosy</cp:lastModifiedBy>
  <dcterms:modified xsi:type="dcterms:W3CDTF">2010-06-13T19:32:53Z</dcterms:modified>
  <cp:revision>11</cp:revision>
  <dc:subject/>
  <dc:title>Manifest Destiny</dc:title>
</cp:coreProperties>
</file>